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54.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63.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52.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10.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E419C2-B71C-4DAB-9767-CE1A6BF816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928F86-9909-4A48-B4DD-A10EB8161F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Целта на оваа групна активност е да се развие дискусија меѓу слушателите во групата за информациите за осомниченото лице кои може да се бараат. Исто така е важно да се идентификуваат можните извори на информаци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о дискусијата меѓу слушателите во групата, тие треба да презентираат список на информации кои може да се добијат од различни извори на информаци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Од групите се очекува да ги наведат сите извори на информации за осомниченото лице, со фокус врз интернетот како извор на информаци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крајот од оваа практична вежба, групите треба да се согласат за списокот на извори на информации и информациите кои треба да се земат предвид пред да почне фазата на планирање и подготовка за претресот и заплената.  </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ED0EB8-60C6-4352-863F-3788814716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BEF439-6158-4739-8BB2-FAB963E099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Замислете интернет услуга што чува необработени податоци на Амазон Ѕ3, користи автентикација од Фејсбук, плаќања преку ПејПал и обезбедува туркање на информации во реално време за релевантната активност на своите претплатени корисници преку Твитер.</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Фаќање докази од интернет</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26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587C83-6C1A-461C-A441-79121C559F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710C22-CC40-4FC2-8919-31C95774A7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5555DC-5D15-4823-9653-5662DAFCA4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лку е вешт осомничениот?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085BA3-3AA5-428C-8EE7-BE0E149C83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A568FF-217E-4FD4-A916-5D20639B9F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Овластување кое ќе биде потребно за изведување на активноста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55439C-B7C7-4CCD-A34C-F05F98914D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26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о предавањето на оваа наставна единица слушателите ќе можат: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рашања</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4D1BC4-FFD3-4102-87AB-ABD006F8B6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45DB2E-8770-48E9-B9E1-B3CD03F832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BB9BD-6B00-4C32-B5A2-5A0B60510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A0994-4D8D-4FCB-A299-9A26AAF23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E541D-E302-4197-858B-71A57B0AD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5D69F-E46F-4A0E-92FB-10991B5F5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CF81C-A29F-4F5C-BE45-954AA888B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357DE-8D8E-4585-9565-431BC54EE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46712-76ED-4969-8AB3-0AB1C3172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B8EFC-0940-48D1-A7D3-D0FB4169C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43E86-4E2C-48B3-A97D-B8C63C615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C7802-39E2-4BA3-833B-B9DFC7AAD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6060C-41E9-4C4B-BBF4-B68BC03A1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7C9F9-F83B-465A-8FD5-CD95D79F4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2AD17C-5DAB-4F44-AC67-C40083608EE0}"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A07F7A-C9E8-4A8F-98CA-E2C1A0E35F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dnsstuff.com/" TargetMode="External"/><Relationship Id="rId2" Type="http://schemas.openxmlformats.org/officeDocument/2006/relationships/hyperlink" Target="http://www.domaintools.com/" TargetMode="External"/><Relationship Id="rId3" Type="http://schemas.openxmlformats.org/officeDocument/2006/relationships/hyperlink" Target="http://www.centralops.net/"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732C08-3F33-4FE8-AFA7-A1138F3BF3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бука за органите за спроведување на законот како дел од првата екипа на местото на настанот</a:t>
            </a:r>
            <a:endParaRPr b="0" lang="en-US" sz="4400" spc="-1" strike="noStrike">
              <a:solidFill>
                <a:srgbClr val="000000"/>
              </a:solidFill>
              <a:latin typeface="Calibri"/>
            </a:endParaRPr>
          </a:p>
        </p:txBody>
      </p:sp>
      <p:sp>
        <p:nvSpPr>
          <p:cNvPr id="50" name="PlaceHolder 2"/>
          <p:cNvSpPr>
            <a:spLocks noGrp="1"/>
          </p:cNvSpPr>
          <p:nvPr>
            <p:ph type="subTitle"/>
          </p:nvPr>
        </p:nvSpPr>
        <p:spPr>
          <a:xfrm>
            <a:off x="685440" y="3886200"/>
            <a:ext cx="8001000" cy="247032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Наставна единица 1.1.4</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898989"/>
                </a:solidFill>
                <a:latin typeface="Calibri"/>
              </a:rPr>
              <a:t>Електронски докази</a:t>
            </a:r>
            <a:endParaRPr b="0" lang="en-US" sz="3200" spc="-1" strike="noStrike">
              <a:solidFill>
                <a:srgbClr val="000000"/>
              </a:solidFill>
              <a:latin typeface="Calibri"/>
            </a:endParaRPr>
          </a:p>
        </p:txBody>
      </p:sp>
      <p:pic>
        <p:nvPicPr>
          <p:cNvPr id="51"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Истрага</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6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Пред да се започне со планирање и подготовка на претресот, прво треба да се изработи профилот на осомничениот и да се анализа ситуацијата, со одговор на следниве прашања:</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Кој? Кого барате?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Што? За какво дело се работи и што точно е предметот на истрагат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Каде? Каде се одвива претресот и на која локацијат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Кога? За кога е планиран претресот и кога истиот треба да се испланира? </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Како? Како ќе дојдете на местото на настанот и како ќе го спроведете претресот?</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Одговорите на овие прашања ќе ни дадат подобра слика за ситуацијата, а нашите активности ќе ги планираме според одговорите на овие прашањ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408C8C-6F7A-4300-85BE-C5D9493555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Работа во групи </a:t>
            </a:r>
            <a:endParaRPr b="0" lang="en-US" sz="4400" spc="-1" strike="noStrike">
              <a:solidFill>
                <a:srgbClr val="000000"/>
              </a:solidFill>
              <a:latin typeface="Calibri"/>
            </a:endParaRPr>
          </a:p>
        </p:txBody>
      </p:sp>
      <p:sp>
        <p:nvSpPr>
          <p:cNvPr id="79"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поред вашето искуство, каде може да се побараат информации за осомниченото лице?</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B8D345-3CDC-4D10-8C37-B6ABD0C1FE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31840" y="274320"/>
            <a:ext cx="874872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600" spc="-1" strike="noStrike">
                <a:solidFill>
                  <a:srgbClr val="000000"/>
                </a:solidFill>
                <a:latin typeface="Calibri"/>
              </a:rPr>
              <a:t>Прибирање на информации за осомничениот од отворени извори</a:t>
            </a:r>
            <a:endParaRPr b="0" lang="en-US" sz="36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нформации за осомничениот од интернет провајдерот или од компаниите за хостирање ; треба да разбереме дека овие информации сами по себе не се доволни за да се идентификува осомниченото лице. Треба да се обидеме да најдеме и прибереме повеќе информации.  </a:t>
            </a:r>
            <a:endParaRPr b="0" lang="en-US" sz="2400" spc="-1" strike="noStrike">
              <a:solidFill>
                <a:srgbClr val="000000"/>
              </a:solidFill>
              <a:latin typeface="Calibri"/>
            </a:endParaRPr>
          </a:p>
          <a:p>
            <a:pPr marL="329040" indent="-3290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ма различни налини да се приберат информации. Корисно е да се провери дали за осомничениот има податоци во постоечката полициска база на податоци, затоа што можеби е познат за слични дела, а друга можност е да се поверат отворените бази на податоци:  </a:t>
            </a:r>
            <a:r>
              <a:rPr b="1" i="1" lang="mk-MK" sz="2400" spc="-1" strike="noStrike">
                <a:solidFill>
                  <a:srgbClr val="000000"/>
                </a:solidFill>
                <a:latin typeface="Calibri"/>
              </a:rPr>
              <a:t>Интерне</a:t>
            </a:r>
            <a:r>
              <a:rPr b="0" lang="mk-MK" sz="2400" spc="-1" strike="noStrike">
                <a:solidFill>
                  <a:srgbClr val="000000"/>
                </a:solidFill>
                <a:latin typeface="Calibri"/>
              </a:rPr>
              <a:t>т</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569FE3-D2EF-46E0-B2DB-89732E227B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еземање на докази од јавно достапни информации на интерне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окази од тајни истраги на интерне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Ова бара поинакви познавања и вештини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Бара посебно законодавство и постапки</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716348-6D1C-48BF-A61C-7E0E115B2B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itle 1"/>
          <p:cNvSpPr/>
          <p:nvPr/>
        </p:nvSpPr>
        <p:spPr>
          <a:xfrm>
            <a:off x="457200" y="293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Фаќање докази од интернет</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Докази од „интернет комбинирано програмирање“ </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омбинација </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Визуелизација </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 </a:t>
            </a:r>
            <a:r>
              <a:rPr b="0" lang="mk-MK" sz="2800" spc="-1" strike="noStrike">
                <a:solidFill>
                  <a:srgbClr val="000000"/>
                </a:solidFill>
                <a:latin typeface="Calibri"/>
              </a:rPr>
              <a:t>собирање</a:t>
            </a:r>
            <a:endParaRPr b="0" lang="en-US" sz="2800" spc="-1" strike="noStrike">
              <a:solidFill>
                <a:srgbClr val="000000"/>
              </a:solidFill>
              <a:latin typeface="Calibri"/>
            </a:endParaRPr>
          </a:p>
          <a:p>
            <a:pPr lvl="1" marL="646200" indent="-2484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646200" indent="-248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Сите овие „онлајн докази“ бараат посебни постапки за прибирање за да се гранатира допуштеноста на доказите кои ќе произлезат. </a:t>
            </a:r>
            <a:endParaRPr b="0" lang="en-US" sz="2400" spc="-1" strike="noStrike">
              <a:solidFill>
                <a:srgbClr val="000000"/>
              </a:solidFill>
              <a:latin typeface="Calibri"/>
            </a:endParaRPr>
          </a:p>
          <a:p>
            <a:pPr lvl="1" marL="646200" indent="-248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646200" indent="-2484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2400" spc="-1" strike="noStrike">
                <a:solidFill>
                  <a:srgbClr val="000000"/>
                </a:solidFill>
                <a:latin typeface="Calibri"/>
              </a:rPr>
              <a:t>Не сите онлајн информации можат да бидат докази!</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A0208F-C5A5-48BC-843E-8262BD7AB9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Title 1"/>
          <p:cNvSpPr/>
          <p:nvPr/>
        </p:nvSpPr>
        <p:spPr>
          <a:xfrm>
            <a:off x="457200" y="293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Фаќање докази од интернет</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ИП за Интернет протокол</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Интернет протоколот е одговорен за упатување на податочни пакети од изворот до дестинацијата, каде и изворот и дестинацијата се хостирани на локации идентификувани со адреса со точно определена должина. </a:t>
            </a:r>
            <a:endParaRPr b="0" lang="en-US" sz="2200" spc="-1" strike="noStrike">
              <a:solidFill>
                <a:srgbClr val="000000"/>
              </a:solidFill>
              <a:latin typeface="Calibri"/>
            </a:endParaRPr>
          </a:p>
          <a:p>
            <a:pPr marL="343080" indent="-343080">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Форматот на IPv4 адресата е 32-битна нумеричка адреса напишана како четири бројки одвоен со точки. Секој број може да биде од 0 до 255. Пример за ИП адреса: 68.160.10.240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IPv6 адреса се состои од осум групи од по четири хексадецимални бројки. Секоја група е одвоена со две точки(на пример 2001:0db8:85a3:0042:0000:8a2e:0370:7334).</a:t>
            </a:r>
            <a:endParaRPr b="0" lang="en-US" sz="22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80D38F-70CE-49E6-BF35-86734226BC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ИП за Интернет протокол</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Агенцијата за доделување на броеви на интернет (ИАНА) ги регулира овие ИП адреси. Меѓу другите работи, нејзината задача е да го координира ИП адресирањето преку регионално тела лоцирани низ светот познати како Регионални интернет регистри (РИР):</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RIPE (Европа и некои делови на Азиј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APNIC (Азија и Пацифичкиот регион)</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ARIN (Северна Америк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LACNIC (Латинска Америка и Карибите)</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AfriNIC (Африка)</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4462F3-45BA-4A7B-AC7D-1C92308D55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ИП за Интернет протокол</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Улога на Провајдерот на интернет услуги</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Опсег на ИП адреси</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DHCP- Протокол за динамична конфигурација на домаќинот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Разликата меѓу динамични и статични ИП адреси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Од 10.0.0.0 до 10.255.255.255 – класа 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Од 172.16.0.0 до 172.31.255.255 – класа B</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Од 192.168.0.0 до 192.168.255.255 – класа 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2CAB31-C73A-45D9-B991-B6384AA231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ДНС за Доменски именски систем</a:t>
            </a:r>
            <a:endParaRPr b="0" lang="en-US" sz="40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о имињата на домените управуваат регистратори кои мора да се акредитирани од </a:t>
            </a:r>
            <a:endParaRPr b="0" lang="en-US" sz="24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 </a:t>
            </a:r>
            <a:r>
              <a:rPr b="0" lang="mk-MK" sz="2000" spc="-1" strike="noStrike">
                <a:solidFill>
                  <a:srgbClr val="000000"/>
                </a:solidFill>
                <a:latin typeface="Calibri"/>
              </a:rPr>
              <a:t>Интернет корпорацијата за доделени имиња и броеви (ICANN; </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Регистри наведени од ИАНА (Агенција за доделување на броеви на интернет)</a:t>
            </a:r>
            <a:endParaRPr b="0" lang="en-US" sz="2000" spc="-1" strike="noStrike">
              <a:solidFill>
                <a:srgbClr val="000000"/>
              </a:solidFill>
              <a:latin typeface="Calibri"/>
            </a:endParaRPr>
          </a:p>
          <a:p>
            <a:pPr lvl="1" marL="720720" indent="-27720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20720" indent="-27720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За генерички домени од врвно ниво (gTLDs), како што се .com, .net, .org, .biz, и други, ICANN ги акредитира самите Регистри.</a:t>
            </a:r>
            <a:endParaRPr b="0" lang="en-US" sz="1800" spc="-1" strike="noStrike">
              <a:solidFill>
                <a:srgbClr val="000000"/>
              </a:solidFill>
              <a:latin typeface="Calibri"/>
            </a:endParaRPr>
          </a:p>
          <a:p>
            <a:pPr lvl="1" marL="720720" indent="-27720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За домените од врвно ниво со кодот на земјата (ccTLFDs) како што се .us, .uk, .de, .ie, и други ИАНА го делегира регистрирањето.</a:t>
            </a:r>
            <a:endParaRPr b="0" lang="en-US" sz="18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околку името на доменот не е регистрирано од компанија за заштита на приватноста, овие регистри можат да чуваат вредни информации за сопственикот на името на доменот. </a:t>
            </a:r>
            <a:endParaRPr b="0" lang="en-US" sz="24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47311B-608A-4424-B59A-4CAFF1A41FC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УРИ за Униформен идентификатор на ресурси</a:t>
            </a:r>
            <a:endParaRPr b="0" lang="en-US" sz="4000" spc="-1" strike="noStrike">
              <a:solidFill>
                <a:srgbClr val="000000"/>
              </a:solidFill>
              <a:latin typeface="Calibri"/>
            </a:endParaRPr>
          </a:p>
        </p:txBody>
      </p:sp>
      <p:sp>
        <p:nvSpPr>
          <p:cNvPr id="103" name=""/>
          <p:cNvSpPr txBox="1"/>
          <p:nvPr/>
        </p:nvSpPr>
        <p:spPr>
          <a:xfrm>
            <a:off x="163440" y="1600200"/>
            <a:ext cx="8707680" cy="4525920"/>
          </a:xfrm>
          <a:prstGeom prst="rect">
            <a:avLst/>
          </a:prstGeom>
          <a:noFill/>
          <a:ln w="0">
            <a:noFill/>
          </a:ln>
        </p:spPr>
        <p:txBody>
          <a:bodyPr anchor="t">
            <a:normAutofit/>
          </a:bodyPr>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Светската мрежа (World Wide Web (WWW)) е систем на поврзани документи на кои може да им се пристапи преку интернет.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Овие документи не се вообичаени текст документи, туку хипертекст документи, познати како веб страници.</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Хипертекстот овозможува да се поврзат документите кои може да бидат чувани на различни компјутери низ светот.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Веб страниците вообичаено се пишуваат со она што вообичаено се нарекува HTML код и можат да содржат различни видови на информации.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900" spc="-1" strike="noStrike">
                <a:solidFill>
                  <a:srgbClr val="000000"/>
                </a:solidFill>
                <a:latin typeface="Calibri"/>
              </a:rPr>
              <a:t>Веб страниците вообичаено се групирани на она што е познато како веб локации. </a:t>
            </a:r>
            <a:endParaRPr b="0" lang="en-US" sz="1900" spc="-1" strike="noStrike">
              <a:solidFill>
                <a:srgbClr val="000000"/>
              </a:solidFill>
              <a:latin typeface="Calibri"/>
            </a:endParaRPr>
          </a:p>
          <a:p>
            <a:pPr marL="343080" indent="-3430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900" spc="-1" strike="noStrike">
                <a:solidFill>
                  <a:srgbClr val="000000"/>
                </a:solidFill>
                <a:latin typeface="Calibri"/>
              </a:rPr>
              <a:t>Структура на URL: </a:t>
            </a:r>
            <a:r>
              <a:rPr b="1" lang="mk-MK" sz="1900" spc="-1" strike="noStrike" u="sng">
                <a:solidFill>
                  <a:srgbClr val="7f9698"/>
                </a:solidFill>
                <a:uFillTx/>
                <a:latin typeface="Calibri"/>
              </a:rPr>
              <a:t>h</a:t>
            </a:r>
            <a:r>
              <a:rPr b="1" lang="mk-MK" sz="1900" spc="-1" strike="noStrike" u="sng">
                <a:solidFill>
                  <a:srgbClr val="0000ff"/>
                </a:solidFill>
                <a:uFillTx/>
                <a:latin typeface="Calibri"/>
              </a:rPr>
              <a:t>ttp://www.name-of-the-website.com/name-of-the-webpage.ht</a:t>
            </a:r>
            <a:r>
              <a:rPr b="1" lang="mk-MK" sz="1900" spc="-1" strike="noStrike">
                <a:solidFill>
                  <a:srgbClr val="000000"/>
                </a:solidFill>
                <a:latin typeface="Calibri"/>
              </a:rPr>
              <a:t>m</a:t>
            </a:r>
            <a:endParaRPr b="0" lang="en-US" sz="19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B8A633-9A72-4413-AC9C-5576261E05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7B3997-BFEA-4718-84E9-2DB2AA9BE5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
        <p:nvSpPr>
          <p:cNvPr id="54"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потенцијалните докази и извори на докази на интернет</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елотворно да ги завршат подготовката и планирањето на претресот и заплената на електронски докази</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овластувањата и одобрувањата во постапката за претрес и заплена на електронски докази. </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улогата на надворешните специјализирани вешти лица.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600" spc="-1" strike="noStrike">
                <a:solidFill>
                  <a:srgbClr val="000000"/>
                </a:solidFill>
                <a:latin typeface="Calibri"/>
              </a:rPr>
              <a:t>ИП и ДНС записи во онлајн истраги</a:t>
            </a:r>
            <a:endParaRPr b="0" lang="en-US" sz="3600" spc="-1" strike="noStrike">
              <a:solidFill>
                <a:srgbClr val="000000"/>
              </a:solidFill>
              <a:latin typeface="Calibri"/>
            </a:endParaRPr>
          </a:p>
        </p:txBody>
      </p:sp>
      <p:sp>
        <p:nvSpPr>
          <p:cNvPr id="106" name=""/>
          <p:cNvSpPr txBox="1"/>
          <p:nvPr/>
        </p:nvSpPr>
        <p:spPr>
          <a:xfrm>
            <a:off x="457200" y="1600200"/>
            <a:ext cx="8229600" cy="47563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www.dnsstuff.com</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2"/>
              </a:rPr>
              <a:t>www.domaintools.com</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3"/>
              </a:rPr>
              <a:t>www.centralops.net</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000" spc="-1" strike="noStrike">
                <a:solidFill>
                  <a:srgbClr val="000000"/>
                </a:solidFill>
                <a:latin typeface="Calibri"/>
              </a:rPr>
              <a:t>Кој е пребарување (Whois)</a:t>
            </a:r>
            <a:r>
              <a:rPr b="0" lang="mk-MK" sz="2000" spc="-1" strike="noStrike" u="sng">
                <a:solidFill>
                  <a:srgbClr val="000000"/>
                </a:solidFill>
                <a:uFillTx/>
                <a:latin typeface="Calibri"/>
              </a:rPr>
              <a:t> </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000" spc="-1" strike="noStrike">
                <a:solidFill>
                  <a:srgbClr val="000000"/>
                </a:solidFill>
                <a:latin typeface="Calibri"/>
              </a:rPr>
              <a:t>Обратно Кој е пребарување (Reverse Whois)</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000" spc="-1" strike="noStrike">
                <a:solidFill>
                  <a:srgbClr val="000000"/>
                </a:solidFill>
                <a:latin typeface="Calibri"/>
              </a:rPr>
              <a:t>ИП Пребарување</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000" spc="-1" strike="noStrike">
                <a:solidFill>
                  <a:srgbClr val="000000"/>
                </a:solidFill>
                <a:latin typeface="Calibri"/>
              </a:rPr>
              <a:t>IP Lookup</a:t>
            </a:r>
            <a:endParaRPr b="0" lang="en-US" sz="2000" spc="-1" strike="noStrike">
              <a:solidFill>
                <a:srgbClr val="000000"/>
              </a:solidFill>
              <a:latin typeface="Calibri"/>
            </a:endParaRPr>
          </a:p>
          <a:p>
            <a:pPr marL="318960" indent="-31896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ДНС записите се менуваат од време на време</a:t>
            </a:r>
            <a:r>
              <a:rPr b="0" lang="en-US" sz="2000" spc="-1" strike="noStrike">
                <a:solidFill>
                  <a:srgbClr val="000000"/>
                </a:solidFill>
                <a:latin typeface="Calibri"/>
              </a:rPr>
              <a:t>.</a:t>
            </a:r>
            <a:endParaRPr b="0" lang="en-US" sz="2000" spc="-1" strike="noStrike">
              <a:solidFill>
                <a:srgbClr val="000000"/>
              </a:solidFill>
              <a:latin typeface="Calibri"/>
            </a:endParaRPr>
          </a:p>
          <a:p>
            <a:pPr marL="318960" indent="-31896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mk-MK" sz="2000" spc="-1" strike="noStrike">
                <a:solidFill>
                  <a:srgbClr val="000000"/>
                </a:solidFill>
                <a:latin typeface="Calibri"/>
              </a:rPr>
              <a:t>Достапни информации поврзани со одредена ИП адреса: </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Кој е регистраторот</a:t>
            </a:r>
            <a:endParaRPr b="0" lang="en-US" sz="2000" spc="-1" strike="noStrike">
              <a:solidFill>
                <a:srgbClr val="000000"/>
              </a:solidFill>
              <a:latin typeface="Calibri"/>
            </a:endParaRPr>
          </a:p>
          <a:p>
            <a:pPr lvl="1" marL="690840" indent="-2656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земјата, обратен ДНС и блок опсегот на ИП на кој му припаѓа</a:t>
            </a:r>
            <a:endParaRPr b="0" lang="en-US" sz="1600" spc="-1" strike="noStrike">
              <a:solidFill>
                <a:srgbClr val="000000"/>
              </a:solidFill>
              <a:latin typeface="Calibri"/>
            </a:endParaRPr>
          </a:p>
          <a:p>
            <a:pPr lvl="1" marL="690840" indent="-2656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 </a:t>
            </a:r>
            <a:r>
              <a:rPr b="0" lang="mk-MK" sz="1600" spc="-1" strike="noStrike">
                <a:solidFill>
                  <a:srgbClr val="000000"/>
                </a:solidFill>
                <a:latin typeface="Calibri"/>
              </a:rPr>
              <a:t>физичка локација во одредена земја </a:t>
            </a:r>
            <a:endParaRPr b="0" lang="en-US" sz="1600" spc="-1" strike="noStrike">
              <a:solidFill>
                <a:srgbClr val="000000"/>
              </a:solidFill>
              <a:latin typeface="Calibri"/>
            </a:endParaRPr>
          </a:p>
          <a:p>
            <a:pPr lvl="1" marL="690840" indent="-2656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 </a:t>
            </a:r>
            <a:r>
              <a:rPr b="0" lang="mk-MK" sz="1600" spc="-1" strike="noStrike">
                <a:solidFill>
                  <a:srgbClr val="000000"/>
                </a:solidFill>
                <a:latin typeface="Calibri"/>
              </a:rPr>
              <a:t>гео-лоцирање (не секогаш точно) со определување на градот </a:t>
            </a:r>
            <a:endParaRPr b="0" lang="en-US" sz="1600" spc="-1" strike="noStrike">
              <a:solidFill>
                <a:srgbClr val="000000"/>
              </a:solidFill>
              <a:latin typeface="Calibri"/>
            </a:endParaRPr>
          </a:p>
          <a:p>
            <a:pPr lvl="1" marL="690840" indent="-2656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 </a:t>
            </a:r>
            <a:r>
              <a:rPr b="0" lang="mk-MK" sz="1600" spc="-1" strike="noStrike">
                <a:solidFill>
                  <a:srgbClr val="000000"/>
                </a:solidFill>
                <a:latin typeface="Calibri"/>
              </a:rPr>
              <a:t>географска ширина и должина</a:t>
            </a:r>
            <a:endParaRPr b="0" lang="en-US" sz="1600" spc="-1" strike="noStrike">
              <a:solidFill>
                <a:srgbClr val="000000"/>
              </a:solidFill>
              <a:latin typeface="Calibri"/>
            </a:endParaRPr>
          </a:p>
          <a:p>
            <a:pPr lvl="1" marL="690840" indent="-26568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015924-B229-44A8-8B37-7F351027D1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Национални провајдери на интернет услуги</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рибирање информации од националниот Провајдер на интернет услуги</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нформации за претплатникот (регистрираниот сопственик на врската, адреса на конекцијата, информации за плаќање сметки, телефонски број, итн.) </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нформации за трансакциите (време на конектирање, датум на конектирање, користени ИП адреси, итн.) </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одржина (ова не е секогаш достапно), најголем дел од провајдерите обезбедуваат бесплатни сметки за електронска пошта, различни услуги. Од провајдерите може да се добијат пораките од електронската пошта или други услуги. </a:t>
            </a:r>
            <a:endParaRPr b="0" lang="en-US" sz="2400" spc="-1" strike="noStrike">
              <a:solidFill>
                <a:srgbClr val="000000"/>
              </a:solidFill>
              <a:latin typeface="Calibri"/>
            </a:endParaRPr>
          </a:p>
          <a:p>
            <a:pPr lvl="1" marL="698400" indent="-268560" algn="ctr">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Како да ги добиеме таквите информации?</a:t>
            </a:r>
            <a:endParaRPr b="0" lang="en-US" sz="20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A312CF-B587-4AD7-8115-F532BCB9D8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Меѓународни провајдери на интернет услуги</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Информации од Провајдерите на интернет услуги</a:t>
            </a:r>
            <a:endParaRPr b="0" lang="en-US" sz="2600" spc="-1" strike="noStrike">
              <a:solidFill>
                <a:srgbClr val="000000"/>
              </a:solidFill>
              <a:latin typeface="Calibri"/>
            </a:endParaRPr>
          </a:p>
          <a:p>
            <a:pPr lvl="1" marL="690840" indent="-2656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rPr>
              <a:t>ИП адреси</a:t>
            </a:r>
            <a:endParaRPr b="0" lang="en-US" sz="2600" spc="-1" strike="noStrike">
              <a:solidFill>
                <a:srgbClr val="000000"/>
              </a:solidFill>
              <a:latin typeface="Calibri"/>
            </a:endParaRPr>
          </a:p>
          <a:p>
            <a:pPr lvl="1" marL="690840" indent="-2656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rPr>
              <a:t>Локација на прво користење</a:t>
            </a:r>
            <a:endParaRPr b="0" lang="en-US" sz="2600" spc="-1" strike="noStrike">
              <a:solidFill>
                <a:srgbClr val="000000"/>
              </a:solidFill>
              <a:latin typeface="Calibri"/>
            </a:endParaRPr>
          </a:p>
          <a:p>
            <a:pPr lvl="1" marL="690840" indent="-2656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rPr>
              <a:t>Локација на последно користење</a:t>
            </a:r>
            <a:endParaRPr b="0" lang="en-US" sz="2600" spc="-1" strike="noStrike">
              <a:solidFill>
                <a:srgbClr val="000000"/>
              </a:solidFill>
              <a:latin typeface="Calibri"/>
            </a:endParaRPr>
          </a:p>
          <a:p>
            <a:pPr lvl="1" marL="690840" indent="-2656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rPr>
              <a:t>Записи од активности</a:t>
            </a:r>
            <a:endParaRPr b="0" lang="en-US" sz="2600" spc="-1" strike="noStrike">
              <a:solidFill>
                <a:srgbClr val="000000"/>
              </a:solidFill>
              <a:latin typeface="Calibri"/>
            </a:endParaRPr>
          </a:p>
          <a:p>
            <a:pPr lvl="1" marL="690840" indent="-2656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rPr>
              <a:t>Друго</a:t>
            </a:r>
            <a:endParaRPr b="0" lang="en-US" sz="2600" spc="-1" strike="noStrike">
              <a:solidFill>
                <a:srgbClr val="000000"/>
              </a:solidFill>
              <a:latin typeface="Calibri"/>
            </a:endParaRPr>
          </a:p>
          <a:p>
            <a:pPr lvl="1" marL="690840" indent="-26568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Како да ги добиеме таквите информации?</a:t>
            </a:r>
            <a:endParaRPr b="0" lang="en-US" sz="2400" spc="-1" strike="noStrike">
              <a:solidFill>
                <a:srgbClr val="000000"/>
              </a:solidFill>
              <a:latin typeface="Calibri"/>
            </a:endParaRPr>
          </a:p>
          <a:p>
            <a:pPr lvl="1" marL="690840" indent="-26568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Конвенцијата од Будимпешта против компјутерски криминал </a:t>
            </a:r>
            <a:endParaRPr b="0" lang="en-US" sz="2400" spc="-1" strike="noStrike">
              <a:solidFill>
                <a:srgbClr val="000000"/>
              </a:solidFill>
              <a:latin typeface="Calibri"/>
            </a:endParaRPr>
          </a:p>
          <a:p>
            <a:pPr lvl="1" marL="690840" indent="-26568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Користење на судска наредба или барање за заемна правна помош</a:t>
            </a:r>
            <a:endParaRPr b="0" lang="en-US" sz="2400" spc="-1" strike="noStrike">
              <a:solidFill>
                <a:srgbClr val="000000"/>
              </a:solidFill>
              <a:latin typeface="Calibri"/>
            </a:endParaRPr>
          </a:p>
          <a:p>
            <a:pPr lvl="1" marL="690840" indent="-265680">
              <a:spcBef>
                <a:spcPts val="70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460971-BBC4-465D-841F-7E17E591FE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457200" y="182988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езависни носителите на податоци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егување на соработка меѓу независните носители на податоци и органите за спроведување на законот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чувување на податоц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обивање на информативни извештаи за компјутерски криминал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A714E7-687A-405E-AED3-7E72EB0EA7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6" name="Title 1"/>
          <p:cNvSpPr/>
          <p:nvPr/>
        </p:nvSpPr>
        <p:spPr>
          <a:xfrm>
            <a:off x="457200" y="293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атоци во посед на трети страни</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нлајн извори на информации</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Обична веб локација</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зворен код</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Коментари на кодот</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Скриени полиња</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Упатувања на надворешен сајт</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Онлајн реклами</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Кодови за автентикација на домен</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WebSense / AdSense / SearchSense кодови</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Метаподатоци (на пр. креирање/последна измена)</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Претходни верзии на archive.or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376FD1-8695-40ED-8C4E-F4498139B7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нлајн извори на информации</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Сајтови на социјални мрежи</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Изворен код</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Интерни идентификаци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Подсистем за разговор</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WebSense / AdSense / SearchSense кодов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Метаподатоци (на пр. креирање/последна измена)</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422FA3-EF3F-499B-97DF-A2841A7C17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нлајн извори на информации</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Сајтови на социјални мрежи</a:t>
            </a:r>
            <a:endParaRPr b="0" lang="en-US" sz="32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600" spc="-1" strike="noStrike">
                <a:solidFill>
                  <a:srgbClr val="000000"/>
                </a:solidFill>
                <a:latin typeface="Calibri"/>
              </a:rPr>
              <a:t>Интерни идентификации: </a:t>
            </a:r>
            <a:r>
              <a:rPr b="0" lang="mk-MK" sz="1600" spc="-1" strike="noStrike">
                <a:solidFill>
                  <a:srgbClr val="000000"/>
                </a:solidFill>
                <a:latin typeface="Calibri"/>
              </a:rPr>
              <a:t>Овие веб локации во голема мерка користат внатрешна идентификација за да следат сè (корисници, слики, онлајн разговори, сесии, групи, кликање на „ми се допаѓа/не ми се допаѓа“, итн.) и овие интерни идентификации најчесто се однесуваат на интерни идентификации кои му се достапни на провајдерот. </a:t>
            </a:r>
            <a:br>
              <a:rPr sz="1600"/>
            </a:br>
            <a:r>
              <a:rPr b="1" lang="mk-MK" sz="1600" spc="-1" strike="noStrike">
                <a:solidFill>
                  <a:srgbClr val="000000"/>
                </a:solidFill>
                <a:latin typeface="Calibri"/>
              </a:rPr>
              <a:t> </a:t>
            </a: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600" spc="-1" strike="noStrike">
                <a:solidFill>
                  <a:srgbClr val="000000"/>
                </a:solidFill>
                <a:latin typeface="Calibri"/>
              </a:rPr>
              <a:t>Разговор. </a:t>
            </a:r>
            <a:r>
              <a:rPr b="0" lang="mk-MK" sz="1600" spc="-1" strike="noStrike">
                <a:solidFill>
                  <a:srgbClr val="000000"/>
                </a:solidFill>
                <a:latin typeface="Calibri"/>
              </a:rPr>
              <a:t>Овие сајтови обично нудат услуги за разговор и тие обично нудат информации со голем квалитет ако се обработат адекватно. Клучниот елемент во сите веб-интерактивни елементи што истражителот ќе сака да ги обезбеди е да се соберат колку што е можно повеќе податоци, а не само резултатите кои на крај се изведени од интернет пребарувачот.</a:t>
            </a:r>
            <a:r>
              <a:rPr b="1" lang="mk-MK" sz="1600" spc="-1" strike="noStrike">
                <a:solidFill>
                  <a:srgbClr val="000000"/>
                </a:solidFill>
                <a:latin typeface="Calibri"/>
              </a:rPr>
              <a:t> </a:t>
            </a:r>
            <a:endParaRPr b="0" lang="en-US" sz="1600" spc="-1" strike="noStrike">
              <a:solidFill>
                <a:srgbClr val="000000"/>
              </a:solidFill>
              <a:latin typeface="Calibri"/>
            </a:endParaRPr>
          </a:p>
          <a:p>
            <a:pPr lvl="1" marL="683280" indent="-26280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mk-MK" sz="1600" spc="-1" strike="noStrike">
                <a:solidFill>
                  <a:srgbClr val="000000"/>
                </a:solidFill>
                <a:latin typeface="Calibri"/>
              </a:rPr>
              <a:t>Слики. </a:t>
            </a:r>
            <a:r>
              <a:rPr b="0" lang="mk-MK" sz="1600" spc="-1" strike="noStrike">
                <a:solidFill>
                  <a:srgbClr val="000000"/>
                </a:solidFill>
                <a:latin typeface="Calibri"/>
              </a:rPr>
              <a:t>Иако сајтовите од висок профил воведуваат филтри за „прочистување“ за сликите што се ставаат, истражителот и понатаму може да наиде на некои социјални сајтови и други сајтови кои директно објавуваат поставени слики и да ги извлечат сите релевантни EXIF метаподатоци. </a:t>
            </a:r>
            <a:br>
              <a:rPr sz="1600"/>
            </a:br>
            <a:br>
              <a:rPr sz="1600"/>
            </a:br>
            <a:r>
              <a:rPr b="1" lang="mk-MK" sz="1600" spc="-1" strike="noStrike">
                <a:solidFill>
                  <a:srgbClr val="000000"/>
                </a:solidFill>
                <a:latin typeface="Calibri"/>
              </a:rPr>
              <a:t> </a:t>
            </a:r>
            <a:endParaRPr b="0" lang="en-US" sz="1600" spc="-1" strike="noStrike">
              <a:solidFill>
                <a:srgbClr val="000000"/>
              </a:solidFill>
              <a:latin typeface="Calibri"/>
            </a:endParaRPr>
          </a:p>
          <a:p>
            <a:pPr marL="315360" indent="-3153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7FB33D-2476-4DFB-98F1-EB4EEA0D14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нлајн извори на информации</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Сајтови за блогирање </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и идентификации (blogID, userI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Кодови за автентикација на домен</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ет комбинирано програмирање: Твитер</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ет комбинирано програмирање: Фејсбук</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ет комбинирано програмирање: Твитер</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ет комбинирано програмирање: Пикаса / Фликр</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Интернет комбинирано програмирање: УРЛ-скратувачи</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Метаподатоци (на пр. креирање/последна измен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B89699-756B-4B24-A734-C218EFC363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нлајн извори на информации</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P2P мрежи кои споделуваат датотеки</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ИП</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Порти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атум на </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реирање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a:t>
            </a:r>
            <a:r>
              <a:rPr b="0" lang="mk-MK" sz="2800" spc="-1" strike="noStrike">
                <a:solidFill>
                  <a:srgbClr val="000000"/>
                </a:solidFill>
                <a:latin typeface="Calibri"/>
              </a:rPr>
              <a:t>ктивности</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B59184-CBFB-446B-8D8D-0E1874DBEA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2" name="Picture 4" descr=""/>
          <p:cNvPicPr/>
          <p:nvPr/>
        </p:nvPicPr>
        <p:blipFill>
          <a:blip r:embed="rId1"/>
          <a:stretch/>
        </p:blipFill>
        <p:spPr>
          <a:xfrm>
            <a:off x="3376440" y="2120760"/>
            <a:ext cx="5767560" cy="4235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одатоци наспроти докази</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За што ви требаат податоците?</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Од каде доаѓаат податоците?</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али сте сигурни во интегритетот на овие податоц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али сте сигурни во целовитоста на овие податоц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али сте сигурни дека нема други податоци за кои не сте свесн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950E68-B3D7-4259-B9C3-3988AE421F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Целта на собирање на докази</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По заплената на доказите, обвинителот на судот треба да му докаже дека изведените докази не се ништо повеќе или помалку од она што биле кога биле прибрани.  </a:t>
            </a:r>
            <a:endParaRPr b="0" lang="en-US" sz="28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7DFE0B-AADA-4526-AEF2-7A41D96BC9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одатоци наспроти докази</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 </a:t>
            </a:r>
            <a:r>
              <a:rPr b="0" lang="mk-MK" sz="3200" spc="-1" strike="noStrike">
                <a:solidFill>
                  <a:srgbClr val="000000"/>
                </a:solidFill>
                <a:latin typeface="Calibri"/>
              </a:rPr>
              <a:t>Дали слика на состојбата на сајтот може да биде доказ?</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опирајте го изворниот код</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Софтвер за снимање на екранот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Креирање на дупликат на веб локацијата кој може да се гледа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Програма HTTrack Website Copier</a:t>
            </a:r>
            <a:endParaRPr b="0" lang="en-US" sz="24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C5B609-59E6-414C-A990-074F3EE184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рикриени онлајн истраги</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Тајниот агент од органите за спроведување на законот мора </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а биде соодветно обучен  </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а е компетентен и овластен </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за онлајн истрага</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работејќи на прикриен начин преку интернет </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Настојувајќи да прибере </a:t>
            </a:r>
            <a:endParaRPr b="0" lang="en-US" sz="2800" spc="-1" strike="noStrike">
              <a:solidFill>
                <a:srgbClr val="000000"/>
              </a:solidFill>
              <a:latin typeface="Calibri"/>
            </a:endParaRPr>
          </a:p>
          <a:p>
            <a:pPr lvl="2" marL="1062720" indent="-2124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 </a:t>
            </a:r>
            <a:r>
              <a:rPr b="0" lang="mk-MK" sz="2400" spc="-1" strike="noStrike">
                <a:solidFill>
                  <a:srgbClr val="000000"/>
                </a:solidFill>
                <a:latin typeface="Calibri"/>
              </a:rPr>
              <a:t>Информации</a:t>
            </a:r>
            <a:endParaRPr b="0" lang="en-US" sz="2400" spc="-1" strike="noStrike">
              <a:solidFill>
                <a:srgbClr val="000000"/>
              </a:solidFill>
              <a:latin typeface="Calibri"/>
            </a:endParaRPr>
          </a:p>
          <a:p>
            <a:pPr lvl="2" marL="1062720" indent="-2124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Разузнавачки информации, или </a:t>
            </a:r>
            <a:endParaRPr b="0" lang="en-US" sz="2400" spc="-1" strike="noStrike">
              <a:solidFill>
                <a:srgbClr val="000000"/>
              </a:solidFill>
              <a:latin typeface="Calibri"/>
            </a:endParaRPr>
          </a:p>
          <a:p>
            <a:pPr lvl="2" marL="1062720" indent="-2124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400" spc="-1" strike="noStrike">
                <a:solidFill>
                  <a:srgbClr val="000000"/>
                </a:solidFill>
                <a:latin typeface="Calibri"/>
              </a:rPr>
              <a:t>докази против некое лице, група или организација</a:t>
            </a:r>
            <a:endParaRPr b="0" lang="en-US" sz="24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A536B0-A2EF-4E03-97F0-6C1CEC58B7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Фејсбук</a:t>
            </a:r>
            <a:endParaRPr b="0" lang="en-US" sz="44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72FEFC-2522-49AE-A80E-CE3DA6B5B4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4" name="Picture 9" descr="C:\Users\Marjan\Desktop\Oslo TOT\Fb1.jpg"/>
          <p:cNvPicPr/>
          <p:nvPr/>
        </p:nvPicPr>
        <p:blipFill>
          <a:blip r:embed="rId1"/>
          <a:stretch/>
        </p:blipFill>
        <p:spPr>
          <a:xfrm>
            <a:off x="392040" y="1924200"/>
            <a:ext cx="8294760" cy="4133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Фејсбук</a:t>
            </a:r>
            <a:endParaRPr b="0" lang="en-US" sz="44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F71331-6834-4E21-A580-FC82C0C515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7" name="Picture 2" descr="C:\Users\Marjan\Desktop\Oslo TOT\Fb2.jpg"/>
          <p:cNvPicPr/>
          <p:nvPr/>
        </p:nvPicPr>
        <p:blipFill>
          <a:blip r:embed="rId1"/>
          <a:stretch/>
        </p:blipFill>
        <p:spPr>
          <a:xfrm>
            <a:off x="380880" y="1992240"/>
            <a:ext cx="8305920" cy="4137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Фејсбук</a:t>
            </a:r>
            <a:endParaRPr b="0" lang="en-US" sz="4400" spc="-1" strike="noStrike">
              <a:solidFill>
                <a:srgbClr val="000000"/>
              </a:solidFill>
              <a:latin typeface="Calibri"/>
            </a:endParaRPr>
          </a:p>
        </p:txBody>
      </p:sp>
      <p:pic>
        <p:nvPicPr>
          <p:cNvPr id="149" name="" descr=""/>
          <p:cNvPicPr/>
          <p:nvPr/>
        </p:nvPicPr>
        <p:blipFill>
          <a:blip r:embed="rId1"/>
          <a:stretch/>
        </p:blipFill>
        <p:spPr>
          <a:xfrm>
            <a:off x="457200" y="1600200"/>
            <a:ext cx="8229600" cy="4525920"/>
          </a:xfrm>
          <a:prstGeom prst="rect">
            <a:avLst/>
          </a:prstGeom>
          <a:ln w="0">
            <a:noFill/>
          </a:ln>
        </p:spPr>
      </p:pic>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FF6C12-AADC-48E2-9021-631C57972F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1" name="Picture 10" descr="C:\Users\Marjan\Desktop\Oslo TOT\Fb3.jpg"/>
          <p:cNvPicPr/>
          <p:nvPr/>
        </p:nvPicPr>
        <p:blipFill>
          <a:blip r:embed="rId2"/>
          <a:stretch/>
        </p:blipFill>
        <p:spPr>
          <a:xfrm>
            <a:off x="457200" y="1600200"/>
            <a:ext cx="8327880" cy="4179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Бинг карти</a:t>
            </a:r>
            <a:endParaRPr b="0" lang="en-US" sz="4400" spc="-1" strike="noStrike">
              <a:solidFill>
                <a:srgbClr val="000000"/>
              </a:solidFill>
              <a:latin typeface="Calibri"/>
            </a:endParaRPr>
          </a:p>
        </p:txBody>
      </p:sp>
      <p:sp>
        <p:nvSpPr>
          <p:cNvPr id="1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599200-82EA-4AA6-A273-042121CEFA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4" name="Picture 4" descr="C:\Users\Marjan\Desktop\Oslo TOT\map1.jpg"/>
          <p:cNvPicPr/>
          <p:nvPr/>
        </p:nvPicPr>
        <p:blipFill>
          <a:blip r:embed="rId1"/>
          <a:stretch/>
        </p:blipFill>
        <p:spPr>
          <a:xfrm>
            <a:off x="457200" y="1860480"/>
            <a:ext cx="8261280" cy="3903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Бинг карти</a:t>
            </a:r>
            <a:endParaRPr b="0" lang="en-US" sz="4400" spc="-1" strike="noStrike">
              <a:solidFill>
                <a:srgbClr val="000000"/>
              </a:solidFill>
              <a:latin typeface="Calibri"/>
            </a:endParaRPr>
          </a:p>
        </p:txBody>
      </p:sp>
      <p:pic>
        <p:nvPicPr>
          <p:cNvPr id="156" name="" descr=""/>
          <p:cNvPicPr/>
          <p:nvPr/>
        </p:nvPicPr>
        <p:blipFill>
          <a:blip r:embed="rId1"/>
          <a:stretch/>
        </p:blipFill>
        <p:spPr>
          <a:xfrm>
            <a:off x="457200" y="1600200"/>
            <a:ext cx="8229600" cy="4525920"/>
          </a:xfrm>
          <a:prstGeom prst="rect">
            <a:avLst/>
          </a:prstGeom>
          <a:ln w="0">
            <a:noFill/>
          </a:ln>
        </p:spPr>
      </p:pic>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0D417C-6BEC-48EB-B5F8-571551894A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8" name="Picture 6" descr="C:\Users\Marjan\Desktop\Oslo TOT\map2.jpg"/>
          <p:cNvPicPr/>
          <p:nvPr/>
        </p:nvPicPr>
        <p:blipFill>
          <a:blip r:embed="rId2"/>
          <a:stretch/>
        </p:blipFill>
        <p:spPr>
          <a:xfrm>
            <a:off x="457200" y="1417680"/>
            <a:ext cx="8229600" cy="4376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Бинг карти</a:t>
            </a:r>
            <a:endParaRPr b="0" lang="en-US" sz="4400" spc="-1" strike="noStrike">
              <a:solidFill>
                <a:srgbClr val="000000"/>
              </a:solidFill>
              <a:latin typeface="Calibri"/>
            </a:endParaRPr>
          </a:p>
        </p:txBody>
      </p:sp>
      <p:pic>
        <p:nvPicPr>
          <p:cNvPr id="160" name="" descr=""/>
          <p:cNvPicPr/>
          <p:nvPr/>
        </p:nvPicPr>
        <p:blipFill>
          <a:blip r:embed="rId1"/>
          <a:stretch/>
        </p:blipFill>
        <p:spPr>
          <a:xfrm>
            <a:off x="457200" y="1600200"/>
            <a:ext cx="8229600" cy="4525920"/>
          </a:xfrm>
          <a:prstGeom prst="rect">
            <a:avLst/>
          </a:prstGeom>
          <a:ln w="0">
            <a:noFill/>
          </a:ln>
        </p:spPr>
      </p:pic>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BC2567-84B6-44FA-ADDF-F78F2A9CF3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2" name="Picture 7" descr="C:\Users\Marjan\Desktop\Oslo TOT\map3.jpg"/>
          <p:cNvPicPr/>
          <p:nvPr/>
        </p:nvPicPr>
        <p:blipFill>
          <a:blip r:embed="rId2"/>
          <a:stretch/>
        </p:blipFill>
        <p:spPr>
          <a:xfrm>
            <a:off x="457200" y="1455840"/>
            <a:ext cx="8229600" cy="4379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Гугл карти</a:t>
            </a:r>
            <a:endParaRPr b="0" lang="en-US" sz="4400" spc="-1" strike="noStrike">
              <a:solidFill>
                <a:srgbClr val="000000"/>
              </a:solidFill>
              <a:latin typeface="Calibri"/>
            </a:endParaRPr>
          </a:p>
        </p:txBody>
      </p:sp>
      <p:pic>
        <p:nvPicPr>
          <p:cNvPr id="164" name="" descr=""/>
          <p:cNvPicPr/>
          <p:nvPr/>
        </p:nvPicPr>
        <p:blipFill>
          <a:blip r:embed="rId1"/>
          <a:stretch/>
        </p:blipFill>
        <p:spPr>
          <a:xfrm>
            <a:off x="457200" y="1600200"/>
            <a:ext cx="8229600" cy="4525920"/>
          </a:xfrm>
          <a:prstGeom prst="rect">
            <a:avLst/>
          </a:prstGeom>
          <a:ln w="0">
            <a:noFill/>
          </a:ln>
        </p:spPr>
      </p:pic>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6BDAB5-BF5F-43BB-BD8A-BD6968E49E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6" name="Picture 4" descr="C:\Users\Marjan\Desktop\Oslo TOT\gmap.jpg"/>
          <p:cNvPicPr/>
          <p:nvPr/>
        </p:nvPicPr>
        <p:blipFill>
          <a:blip r:embed="rId2"/>
          <a:stretch/>
        </p:blipFill>
        <p:spPr>
          <a:xfrm>
            <a:off x="457200" y="1600200"/>
            <a:ext cx="835668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оглед од улица</a:t>
            </a:r>
            <a:endParaRPr b="0" lang="en-US" sz="44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A7FF6B-70DE-495D-A76A-43A7BCE3FB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9" name="Picture 8" descr="C:\Users\Marjan\Desktop\Oslo TOT\strview.jpg"/>
          <p:cNvPicPr/>
          <p:nvPr/>
        </p:nvPicPr>
        <p:blipFill>
          <a:blip r:embed="rId1"/>
          <a:stretch/>
        </p:blipFill>
        <p:spPr>
          <a:xfrm>
            <a:off x="457200" y="1893960"/>
            <a:ext cx="8273880" cy="382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1- Интегритет на податоците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Со ниту едно преземено дејствие не смее да се менува електронскиот уред или медиум, кој подоцна ќе се користи во суд.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ри постапување со електронските уреди и податоци, истите не смеат да се менуваат, ниту нивниот софтвер, ниту нивниот хардвер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Има околности во кои ќе треба да се донесе одлука да се пристапи кон податоци на „жив“ компјутерски систем за да се одбегне губењето на потенцијални докази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269135-20A0-4098-8914-FC6F03565B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Работа во групи </a:t>
            </a:r>
            <a:endParaRPr b="0" lang="en-US" sz="4400" spc="-1" strike="noStrike">
              <a:solidFill>
                <a:srgbClr val="000000"/>
              </a:solidFill>
              <a:latin typeface="Calibri"/>
            </a:endParaRPr>
          </a:p>
        </p:txBody>
      </p:sp>
      <p:sp>
        <p:nvSpPr>
          <p:cNvPr id="171" name=""/>
          <p:cNvSpPr txBox="1"/>
          <p:nvPr/>
        </p:nvSpPr>
        <p:spPr>
          <a:xfrm>
            <a:off x="456840" y="1600200"/>
            <a:ext cx="8458200" cy="4525920"/>
          </a:xfrm>
          <a:prstGeom prst="rect">
            <a:avLst/>
          </a:prstGeom>
          <a:noFill/>
          <a:ln w="0">
            <a:noFill/>
          </a:ln>
        </p:spPr>
        <p:txBody>
          <a:bodyPr anchor="t">
            <a:normAutofit fontScale="89000"/>
          </a:bodyPr>
          <a:p>
            <a:pPr marL="305280" indent="-305280">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Од искуство, кои чекори би ги презеле со цел да се зачуваат доказите собрани од компјутер:</a:t>
            </a:r>
            <a:endParaRPr b="0" lang="en-US" sz="2700" spc="-1" strike="noStrike">
              <a:solidFill>
                <a:srgbClr val="000000"/>
              </a:solidFill>
              <a:latin typeface="Calibri"/>
            </a:endParaRPr>
          </a:p>
          <a:p>
            <a:pPr marL="305280" indent="-305280">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 </a:t>
            </a:r>
            <a:r>
              <a:rPr b="0" lang="mk-MK" sz="2700" spc="-1" strike="noStrike">
                <a:solidFill>
                  <a:srgbClr val="000000"/>
                </a:solidFill>
                <a:latin typeface="Calibri"/>
              </a:rPr>
              <a:t>	</a:t>
            </a:r>
            <a:r>
              <a:rPr b="0" lang="mk-MK" sz="2700" spc="-1" strike="noStrike">
                <a:solidFill>
                  <a:srgbClr val="000000"/>
                </a:solidFill>
                <a:latin typeface="Calibri"/>
              </a:rPr>
              <a:t>Евидентирајте ги сите активности кои се преземаат во однос на електронските докази </a:t>
            </a:r>
            <a:endParaRPr b="0" lang="en-US" sz="2700" spc="-1" strike="noStrike">
              <a:solidFill>
                <a:srgbClr val="000000"/>
              </a:solidFill>
              <a:latin typeface="Calibri"/>
            </a:endParaRPr>
          </a:p>
          <a:p>
            <a:pPr marL="305280" indent="-3052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барајте од осомничениот тој да ја бара информацијата која ви е потребна на неговиот компјутер</a:t>
            </a:r>
            <a:endParaRPr b="0" lang="en-US" sz="2400" spc="-1" strike="noStrike">
              <a:solidFill>
                <a:srgbClr val="000000"/>
              </a:solidFill>
              <a:latin typeface="Calibri"/>
            </a:endParaRPr>
          </a:p>
          <a:p>
            <a:pPr marL="305280" indent="-3052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барајте од осомничениот да го исклучи компјутерскиот систем за вас</a:t>
            </a:r>
            <a:endParaRPr b="0" lang="en-US" sz="2400" spc="-1" strike="noStrike">
              <a:solidFill>
                <a:srgbClr val="000000"/>
              </a:solidFill>
              <a:latin typeface="Calibri"/>
            </a:endParaRPr>
          </a:p>
          <a:p>
            <a:pPr marL="305280" indent="-3052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безбедете дека сите активности се преземени од квалификуван персонал </a:t>
            </a:r>
            <a:endParaRPr b="0" lang="en-US" sz="2400" spc="-1" strike="noStrike">
              <a:solidFill>
                <a:srgbClr val="000000"/>
              </a:solidFill>
              <a:latin typeface="Calibri"/>
            </a:endParaRPr>
          </a:p>
          <a:p>
            <a:pPr marL="305280" indent="-3052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бидете се да избегнете преземање на какви било непотребни дејствија на компјутерот</a:t>
            </a:r>
            <a:endParaRPr b="0" lang="en-US" sz="24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C703C5-AB07-4059-90F9-C4F702F47D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рашања кои треба да се земат предвид </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истем со потенцијални докази на него, мора да се заштити од менување, а потенцијалните докази не може да се менуваат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ли има исклучителни околности кои бараат преземање на други дејствија освен стандардната постапка за заплен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ли постапката е временски ограничен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ли има одредени пречки или можни ограничувања за постапката  </a:t>
            </a:r>
            <a:endParaRPr b="0" lang="en-US" sz="28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5A62E4-C041-4165-B8EE-64F7865855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рашања кои треба да се земат предвид </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Заклучен скринсејвер</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 </a:t>
            </a:r>
            <a:r>
              <a:rPr b="0" lang="mk-MK" sz="3000" spc="-1" strike="noStrike">
                <a:solidFill>
                  <a:srgbClr val="000000"/>
                </a:solidFill>
                <a:latin typeface="Calibri"/>
              </a:rPr>
              <a:t>Шифрирање </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Злонамерен софтвер </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Компјутерско работење во облак (sky drive, drop box, итн.)</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кладирање на далечински локации</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Тековен компјутерски процес </a:t>
            </a:r>
            <a:endParaRPr b="0" lang="en-US" sz="3000" spc="-1" strike="noStrike">
              <a:solidFill>
                <a:srgbClr val="000000"/>
              </a:solidFill>
              <a:latin typeface="Calibri"/>
            </a:endParaRPr>
          </a:p>
          <a:p>
            <a:pPr marL="315360" indent="-31536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Тековна комуникација преку разговор на интернет</a:t>
            </a:r>
            <a:endParaRPr b="0" lang="en-US" sz="3000" spc="-1" strike="noStrike">
              <a:solidFill>
                <a:srgbClr val="000000"/>
              </a:solidFill>
              <a:latin typeface="Calibri"/>
            </a:endParaRPr>
          </a:p>
          <a:p>
            <a:pPr marL="315360" indent="-315360"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000" spc="-1" strike="noStrike">
                <a:solidFill>
                  <a:srgbClr val="000000"/>
                </a:solidFill>
                <a:latin typeface="Calibri"/>
              </a:rPr>
              <a:t>Како да се постапи во вакви ситуации?</a:t>
            </a:r>
            <a:endParaRPr b="0" lang="en-US" sz="30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33852B-A68E-4A9E-B0CD-3561728C27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пшта методологија</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ланирање пред претресот</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барајте информации на националните бази на податоци</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Разузнавачки информации од отворени извори</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Забелешки од самото место и анализа</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проведување на постапки за преземање на податоци</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Обезбедување на преземањето на податоците во целите на автентикација </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оставување на ревизорска трага за активностите и одлуките </a:t>
            </a:r>
            <a:endParaRPr b="0" lang="en-US" sz="28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325487-2BD9-44B4-A3B6-BCA1DF4CB8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Оперативен план</a:t>
            </a:r>
            <a:endParaRPr b="0" lang="en-US" sz="4400" spc="-1" strike="noStrike">
              <a:solidFill>
                <a:srgbClr val="000000"/>
              </a:solidFill>
              <a:latin typeface="Calibri"/>
            </a:endParaRPr>
          </a:p>
        </p:txBody>
      </p:sp>
      <p:sp>
        <p:nvSpPr>
          <p:cNvPr id="183" name=""/>
          <p:cNvSpPr txBox="1"/>
          <p:nvPr/>
        </p:nvSpPr>
        <p:spPr>
          <a:xfrm>
            <a:off x="457200" y="1600200"/>
            <a:ext cx="841392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дготовка на Оперативниот план во фазата на подготовки во матичната канцеларија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пис на карактерот на кривичното дело</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пис на улогата на електронските докази во кривичното дело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пис на должностите на секој член на тимот (список со задачи)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пис на постапувањето со електронските докази  </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пис на ограничувањата на претресот и заплената </a:t>
            </a:r>
            <a:endParaRPr b="0" lang="en-US" sz="24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 </a:t>
            </a:r>
            <a:endParaRPr b="0" lang="en-US" sz="24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дготовка за неочекувани ситуации - </a:t>
            </a:r>
            <a:endParaRPr b="0" lang="en-US" sz="24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0A4BE9-E4FB-46F3-B11A-B4004E03DC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ланирање</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Врз основа на информациите кои ги имаме за осомниченото лице, планираме и одлучуваме кога ќе започне претресот.</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            </a:t>
            </a:r>
            <a:r>
              <a:rPr b="0" lang="mk-MK" sz="2400" spc="-1" strike="noStrike">
                <a:solidFill>
                  <a:srgbClr val="000000"/>
                </a:solidFill>
                <a:latin typeface="Calibri"/>
              </a:rPr>
              <a:t>- Давање кратки упатства и доделување задачи:</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Тимови за претрес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Форензички тим</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F440B8-1482-4F06-BA03-D114D2D805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ланирање</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000" spc="-1" strike="noStrike">
                <a:solidFill>
                  <a:srgbClr val="000000"/>
                </a:solidFill>
                <a:latin typeface="Calibri"/>
              </a:rPr>
              <a:t>Тимот за претрес</a:t>
            </a:r>
            <a:r>
              <a:rPr b="0" lang="mk-MK" sz="2000" spc="-1" strike="noStrike">
                <a:solidFill>
                  <a:srgbClr val="000000"/>
                </a:solidFill>
                <a:latin typeface="Calibri"/>
              </a:rPr>
              <a:t> има задача:</a:t>
            </a:r>
            <a:r>
              <a:rPr b="1" lang="mk-MK"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ја добие релевантната судска одлука (налог за претрес) за влез, претрес и испитување на опремата која ќе се најде во станот.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влезе и да претресе компјутер и уреди за чување на податоци и да ги обезбеди од менување и оштетување</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и идентификува уредите за чување на податоци</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ја ограничи и да ја обезбеди средината со електронска опрем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и претресе присутните лица и да ги заплени најдените предмети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ја состави потребната документација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известува за секој чекор и за секоја ситуација во текот на влегувањето и претресот на станот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а го уапси лицето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9AFCEC-4E69-45B5-99F0-55B9160A9A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Планирање</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600" spc="-1" strike="noStrike">
                <a:solidFill>
                  <a:srgbClr val="000000"/>
                </a:solidFill>
                <a:latin typeface="Calibri"/>
              </a:rPr>
              <a:t>Форензичкиот тим </a:t>
            </a:r>
            <a:r>
              <a:rPr b="0" lang="mk-MK" sz="1600" spc="-1" strike="noStrike">
                <a:solidFill>
                  <a:srgbClr val="000000"/>
                </a:solidFill>
                <a:latin typeface="Calibri"/>
              </a:rPr>
              <a:t>е одговорен да ја подготви целата потребна опрема и алатки потребни за известување за состојбата на компјутерот и да спроведе форензичка анализа на живи податоци, која опфаќа: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Алатки за уредите- ЦД, УСБ, лаптоп компјутери </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Претходно конфигурирани ЦД-а за форензичка анализа на живи податоци и празно УСБ за информациите од форензичката анализа на живите податоци</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УСБ за собирање на RAM меморијата од компјутерот </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Постојано напојување со енергија (за постојано напојување во случај на шифриран компјутер)</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Уреди за чување податоци (тие мора да се чисти „стерилизирани“ уреди)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	</a:t>
            </a:r>
            <a:r>
              <a:rPr b="0" lang="mk-MK" sz="1600" spc="-1" strike="noStrike">
                <a:solidFill>
                  <a:srgbClr val="000000"/>
                </a:solidFill>
                <a:latin typeface="Calibri"/>
              </a:rPr>
              <a:t>	</a:t>
            </a:r>
            <a:r>
              <a:rPr b="0" lang="mk-MK" sz="1600" spc="-1" strike="noStrike">
                <a:solidFill>
                  <a:srgbClr val="000000"/>
                </a:solidFill>
                <a:latin typeface="Calibri"/>
              </a:rPr>
              <a:t>Форензичкиот тим е одговорен за дефинирање на постапката за испитување и за тестирање на сите алатки кои се планира да се искористат, кои мора да се подготват на чисти и безбедни уреди за чување податоци. </a:t>
            </a:r>
            <a:endParaRPr b="0" lang="en-US" sz="1600" spc="-1" strike="noStrike">
              <a:solidFill>
                <a:srgbClr val="000000"/>
              </a:solidFill>
              <a:latin typeface="Calibri"/>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611613-2B0C-4176-89D9-DB6F6CD5CE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549927-270F-4BF0-A5CC-7FE4969327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готовка и планирање</a:t>
            </a:r>
            <a:endParaRPr b="0" lang="en-US" sz="4000" spc="-1" strike="noStrike">
              <a:solidFill>
                <a:srgbClr val="000000"/>
              </a:solidFill>
              <a:latin typeface="Calibri"/>
            </a:endParaRPr>
          </a:p>
        </p:txBody>
      </p:sp>
      <p:sp>
        <p:nvSpPr>
          <p:cNvPr id="196" name=""/>
          <p:cNvSpPr txBox="1"/>
          <p:nvPr/>
        </p:nvSpPr>
        <p:spPr>
          <a:xfrm>
            <a:off x="457200" y="1275840"/>
            <a:ext cx="8229600" cy="521028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Од суштинска важност е внимателната подготовка и планирање на одредена активност, при што треба да се земат предвид најразлични прашења како што се: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Каде се хостирани податоците?</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Колку е вешт осомничениот?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Дали има алтернативни извори за да се добијат истите докази или дополнителни извори за да се зајакнат доказите?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Тактичка одлука да се повратат податоци од осомничениот или од алтернативниот носител на податоци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AC169C-AADD-4E21-991F-672E39F0B1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готовка и планирање</a:t>
            </a:r>
            <a:endParaRPr b="0" lang="en-US" sz="4000" spc="-1" strike="noStrike">
              <a:solidFill>
                <a:srgbClr val="000000"/>
              </a:solidFill>
              <a:latin typeface="Calibri"/>
            </a:endParaRPr>
          </a:p>
        </p:txBody>
      </p:sp>
      <p:sp>
        <p:nvSpPr>
          <p:cNvPr id="199" name=""/>
          <p:cNvSpPr txBox="1"/>
          <p:nvPr/>
        </p:nvSpPr>
        <p:spPr>
          <a:xfrm>
            <a:off x="457200" y="1275840"/>
            <a:ext cx="8229600" cy="521028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Каде се хостирани податоците?</a:t>
            </a:r>
            <a:endParaRPr b="0" lang="en-US" sz="28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Не е невообичаено податоците да бидат хостирани на друга локација, а не на локацијата каде се наоѓа опремата  Неопходно е да се разгледа прашањето каде би можеле да бидат складирани податоците кои се од интерес.  Причините за ова се следниве:</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ристапот кон податоците може да бара дополнително законско овластување, особено како се чуваат во друга земја.</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Може да е потребно да се исполнат дополнителни технички барањата за да се обезбеди зачувување на интегритетот на доказите и истото да се докаже.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2- Ревизорска трага</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Треба да се направи и зачува ревизорска трага или друг вид на евиденција за сите дејствија преземени при постапувањето со електронските докази. Следејќи ја ревизорската трага независна трета страна би требало да го постигне истиот резултат. </a:t>
            </a:r>
            <a:endParaRPr b="0" lang="en-US" sz="2200" spc="-1" strike="noStrike">
              <a:solidFill>
                <a:srgbClr val="000000"/>
              </a:solidFill>
              <a:latin typeface="Calibri"/>
            </a:endParaRPr>
          </a:p>
          <a:p>
            <a:pPr marL="325800" indent="-3258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25800" indent="-3258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Од суштинска важност е точно да се евидентираат сите дејствија за да ѝ се овозможи на трета страна да направи реконструкција на дејствијата на лицето кое прво интервенирало на местото на настанот за да се обезбеди доказната вредност пред судот. Сите дејствија во однос на запленувањето, пристапот, чувањето или преносот на електронските докази мора да бидат целосно документирани, зачувани и достапни за контрола.</a:t>
            </a:r>
            <a:endParaRPr b="0" lang="en-US" sz="2200" spc="-1" strike="noStrike">
              <a:solidFill>
                <a:srgbClr val="000000"/>
              </a:solidFill>
              <a:latin typeface="Calibri"/>
            </a:endParaRPr>
          </a:p>
          <a:p>
            <a:pPr marL="325800" indent="-32580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4FBDF1-D2FC-46EA-99E3-1B8F8C835D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2A4E81-79D1-4777-93CB-05F3BA3621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готовка и планирање</a:t>
            </a:r>
            <a:endParaRPr b="0" lang="en-US" sz="4000" spc="-1" strike="noStrike">
              <a:solidFill>
                <a:srgbClr val="000000"/>
              </a:solidFill>
              <a:latin typeface="Calibri"/>
            </a:endParaRPr>
          </a:p>
        </p:txBody>
      </p:sp>
      <p:sp>
        <p:nvSpPr>
          <p:cNvPr id="202" name="Content Placeholder 2"/>
          <p:cNvSpPr/>
          <p:nvPr/>
        </p:nvSpPr>
        <p:spPr>
          <a:xfrm>
            <a:off x="457200" y="1235160"/>
            <a:ext cx="8512200" cy="48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Arial"/>
              </a:rPr>
              <a:t>Колку е вешт осомничениот?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    </a:t>
            </a:r>
            <a:r>
              <a:rPr b="0" lang="mk-MK" sz="2400" spc="-1" strike="noStrike">
                <a:solidFill>
                  <a:srgbClr val="000000"/>
                </a:solidFill>
                <a:latin typeface="Calibri"/>
              </a:rPr>
              <a:t>Соберете што е можно повеќе разузнавачки податоци за лицето, за неговите способности и вештини</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ea typeface="Arial"/>
              </a:rPr>
              <a:t> </a:t>
            </a:r>
            <a:r>
              <a:rPr b="0" lang="mk-MK" sz="2400" spc="-1" strike="noStrike">
                <a:solidFill>
                  <a:srgbClr val="000000"/>
                </a:solidFill>
                <a:latin typeface="Calibri"/>
                <a:ea typeface="Arial"/>
              </a:rPr>
              <a:t>Користење на софтвер за шифрирање </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ea typeface="Arial"/>
              </a:rPr>
              <a:t> </a:t>
            </a:r>
            <a:r>
              <a:rPr b="0" lang="mk-MK" sz="2400" spc="-1" strike="noStrike">
                <a:solidFill>
                  <a:srgbClr val="000000"/>
                </a:solidFill>
                <a:latin typeface="Calibri"/>
                <a:ea typeface="Arial"/>
              </a:rPr>
              <a:t>Користење на услугата на чување податоци на далечински локации </a:t>
            </a:r>
            <a:endParaRPr b="0" lang="en-US" sz="24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 </a:t>
            </a:r>
            <a:r>
              <a:rPr b="0" lang="mk-MK" sz="2400" spc="-1" strike="noStrike">
                <a:solidFill>
                  <a:srgbClr val="000000"/>
                </a:solidFill>
                <a:latin typeface="Calibri"/>
              </a:rPr>
              <a:t>Приберете разузнавачки информации за неговите вообичаени активности на интернет</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готовка и планирање</a:t>
            </a:r>
            <a:endParaRPr b="0" lang="en-US" sz="40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400" spc="-1" strike="noStrike">
                <a:solidFill>
                  <a:srgbClr val="000000"/>
                </a:solidFill>
                <a:latin typeface="Calibri"/>
              </a:rPr>
              <a:t>Дали има алтернативни извори за да се добијат истите докази или дополнителни извори за да се зајакнат доказите? </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Разгледајте го прашањето дали има други извори на докази </a:t>
            </a:r>
            <a:endParaRPr b="0" lang="en-US" sz="24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другата страна од онлајн трансакцијата, како што е испраќање на електронска пошта</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трета страна која ги поседува податоците, како што е интернет провајдер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провајдер на онлајн услуги</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000" spc="-1" strike="noStrike">
                <a:solidFill>
                  <a:srgbClr val="000000"/>
                </a:solidFill>
                <a:latin typeface="Calibri"/>
              </a:rPr>
              <a:t>Со сè поголемата употреба на компјутерско работење во облак, истите податоци може да се преземат од извори на трети страни</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0D679D-A5F5-4DA8-B868-A31E807A34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Подготовка и планирање</a:t>
            </a:r>
            <a:endParaRPr b="0" lang="en-US" sz="40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Тактичка одлука да се повратат податоци од осомничениот или од алтернативниот носител на податоци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  </a:t>
            </a:r>
            <a:r>
              <a:rPr b="0" lang="mk-MK" sz="2800" spc="-1" strike="noStrike">
                <a:solidFill>
                  <a:srgbClr val="000000"/>
                </a:solidFill>
                <a:latin typeface="Calibri"/>
              </a:rPr>
              <a:t>  </a:t>
            </a:r>
            <a:r>
              <a:rPr b="0" lang="mk-MK" sz="2800" spc="-1" strike="noStrike">
                <a:solidFill>
                  <a:srgbClr val="000000"/>
                </a:solidFill>
                <a:latin typeface="Calibri"/>
              </a:rPr>
              <a:t>- Разгледајте ја можноста податоците/доказите да ги добиете од трети страни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      </a:t>
            </a:r>
            <a:r>
              <a:rPr b="0" lang="mk-MK" sz="2400" spc="-1" strike="noStrike">
                <a:solidFill>
                  <a:srgbClr val="000000"/>
                </a:solidFill>
                <a:latin typeface="Calibri"/>
              </a:rPr>
              <a:t>- </a:t>
            </a:r>
            <a:r>
              <a:rPr b="0" lang="mk-MK" sz="2800" spc="-1" strike="noStrike">
                <a:solidFill>
                  <a:srgbClr val="000000"/>
                </a:solidFill>
                <a:latin typeface="Calibri"/>
              </a:rPr>
              <a:t>Законски постапки за враќање на податоци</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 Разгледување на прашањето кои извори на докази се важни за истрагата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E10B2E-F293-414C-BBD9-F75BA8CBC0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Работа во групи </a:t>
            </a:r>
            <a:endParaRPr b="0" lang="en-US" sz="4400" spc="-1" strike="noStrike">
              <a:solidFill>
                <a:srgbClr val="000000"/>
              </a:solidFill>
              <a:latin typeface="Calibri"/>
            </a:endParaRPr>
          </a:p>
        </p:txBody>
      </p:sp>
      <p:sp>
        <p:nvSpPr>
          <p:cNvPr id="210"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акви овластувања ви се потребни за претрес и заплен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ако може да изберете стручно лице да биде присутно во текот на заплена на докази, кои прашања треба да ги замете предвид?</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76A982-1FF5-4B47-8F66-CF465ADD39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1CEFB4-7B70-473E-9DCA-A399371E13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Какво овластување е потребно?</a:t>
            </a:r>
            <a:endParaRPr b="0" lang="en-US" sz="4000" spc="-1" strike="noStrike">
              <a:solidFill>
                <a:srgbClr val="000000"/>
              </a:solidFill>
              <a:latin typeface="Calibri"/>
            </a:endParaRPr>
          </a:p>
        </p:txBody>
      </p:sp>
      <p:sp>
        <p:nvSpPr>
          <p:cNvPr id="214" name=""/>
          <p:cNvSpPr txBox="1"/>
          <p:nvPr/>
        </p:nvSpPr>
        <p:spPr>
          <a:xfrm>
            <a:off x="457200" y="1600200"/>
            <a:ext cx="8229600" cy="4756320"/>
          </a:xfrm>
          <a:prstGeom prst="rect">
            <a:avLst/>
          </a:prstGeom>
          <a:noFill/>
          <a:ln w="0">
            <a:noFill/>
          </a:ln>
        </p:spPr>
        <p:txBody>
          <a:bodyPr anchor="t">
            <a:normAutofit fontScale="93000"/>
          </a:bodyPr>
          <a:p>
            <a:pPr marL="478080" indent="-478080">
              <a:lnSpc>
                <a:spcPct val="80000"/>
              </a:lnSpc>
              <a:spcBef>
                <a:spcPts val="575"/>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300" spc="-1" strike="noStrike">
                <a:solidFill>
                  <a:srgbClr val="000000"/>
                </a:solidFill>
                <a:latin typeface="Calibri"/>
              </a:rPr>
              <a:t>Овластување кое ќе биде потребно за изведување на активноста </a:t>
            </a:r>
            <a:endParaRPr b="0" lang="en-US" sz="2300" spc="-1" strike="noStrike">
              <a:solidFill>
                <a:srgbClr val="000000"/>
              </a:solidFill>
              <a:latin typeface="Calibri"/>
            </a:endParaRPr>
          </a:p>
          <a:p>
            <a:pPr lvl="1" marL="850320" indent="-45720">
              <a:lnSpc>
                <a:spcPct val="80000"/>
              </a:lnSpc>
              <a:spcBef>
                <a:spcPts val="575"/>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300" spc="-1" strike="noStrike">
                <a:solidFill>
                  <a:srgbClr val="000000"/>
                </a:solidFill>
                <a:latin typeface="Calibri"/>
              </a:rPr>
              <a:t>- Лицето целосно ги разбира импликациите на давањето на одобрение</a:t>
            </a:r>
            <a:r>
              <a:rPr b="0" lang="mk-MK" sz="2300" spc="-1" strike="noStrike">
                <a:solidFill>
                  <a:srgbClr val="000000"/>
                </a:solidFill>
                <a:latin typeface="Calibri"/>
              </a:rPr>
              <a:t>	</a:t>
            </a:r>
            <a:r>
              <a:rPr b="0" lang="mk-MK" sz="2300" spc="-1" strike="noStrike">
                <a:solidFill>
                  <a:srgbClr val="000000"/>
                </a:solidFill>
                <a:latin typeface="Calibri"/>
              </a:rPr>
              <a:t>	</a:t>
            </a:r>
            <a:endParaRPr b="0" lang="en-US" sz="2300" spc="-1" strike="noStrike">
              <a:solidFill>
                <a:srgbClr val="000000"/>
              </a:solidFill>
              <a:latin typeface="Calibri"/>
            </a:endParaRPr>
          </a:p>
          <a:p>
            <a:pPr lvl="1" marL="850320" indent="-45720">
              <a:lnSpc>
                <a:spcPct val="80000"/>
              </a:lnSpc>
              <a:spcBef>
                <a:spcPts val="575"/>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300" spc="-1" strike="noStrike">
                <a:solidFill>
                  <a:srgbClr val="000000"/>
                </a:solidFill>
                <a:latin typeface="Calibri"/>
              </a:rPr>
              <a:t>	</a:t>
            </a:r>
            <a:r>
              <a:rPr b="0" lang="mk-MK" sz="2300" spc="-1" strike="noStrike">
                <a:solidFill>
                  <a:srgbClr val="000000"/>
                </a:solidFill>
                <a:latin typeface="Calibri"/>
              </a:rPr>
              <a:t>	</a:t>
            </a:r>
            <a:r>
              <a:rPr b="0" lang="mk-MK" sz="2300" spc="-1" strike="noStrike">
                <a:solidFill>
                  <a:srgbClr val="000000"/>
                </a:solidFill>
                <a:latin typeface="Calibri"/>
              </a:rPr>
              <a:t>- национално законодавство – судски наредби и налози </a:t>
            </a:r>
            <a:endParaRPr b="0" lang="en-US" sz="2300" spc="-1" strike="noStrike">
              <a:solidFill>
                <a:srgbClr val="000000"/>
              </a:solidFill>
              <a:latin typeface="Calibri"/>
            </a:endParaRPr>
          </a:p>
          <a:p>
            <a:pPr lvl="1" marL="850320" indent="-45720">
              <a:lnSpc>
                <a:spcPct val="80000"/>
              </a:lnSpc>
              <a:spcBef>
                <a:spcPts val="575"/>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300" spc="-1" strike="noStrike">
                <a:solidFill>
                  <a:srgbClr val="000000"/>
                </a:solidFill>
                <a:latin typeface="Calibri"/>
              </a:rPr>
              <a:t>2.  Другите нивоа на овластување ќе зависат од тоа дали предметот на истрагата е граѓанско правен или кривично правен и дали оние кои барат овластување се органи за спроведување на законот или, обвинителството, или приватни истражители или адвокати кои работат во име на и за нивни клиенти или други категории на лица во двата вида на постапки (граѓанско или кривично правни постапки). </a:t>
            </a:r>
            <a:endParaRPr b="0" lang="en-US" sz="2300" spc="-1" strike="noStrike">
              <a:solidFill>
                <a:srgbClr val="000000"/>
              </a:solidFill>
              <a:latin typeface="Calibri"/>
            </a:endParaRPr>
          </a:p>
          <a:p>
            <a:pPr lvl="1" marL="850320" indent="-45720">
              <a:lnSpc>
                <a:spcPct val="80000"/>
              </a:lnSpc>
              <a:spcBef>
                <a:spcPts val="55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mk-MK" sz="2300" spc="-1" strike="noStrike">
                <a:solidFill>
                  <a:srgbClr val="000000"/>
                </a:solidFill>
                <a:latin typeface="Calibri"/>
              </a:rPr>
              <a:t>	</a:t>
            </a:r>
            <a:r>
              <a:rPr b="0" lang="mk-MK" sz="2300" spc="-1" strike="noStrike">
                <a:solidFill>
                  <a:srgbClr val="ff0000"/>
                </a:solidFill>
                <a:latin typeface="Calibri"/>
              </a:rPr>
              <a:t>	</a:t>
            </a:r>
            <a:r>
              <a:rPr b="0" lang="mk-MK" sz="2200" spc="-1" strike="noStrike">
                <a:solidFill>
                  <a:srgbClr val="ff0000"/>
                </a:solidFill>
                <a:latin typeface="Calibri"/>
              </a:rPr>
              <a:t>Не треба да се презема никаква активност за заплена на опрема или фаќање на податоци без соодветно ниво на овластување кое треба да се добие пред планираните активности.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Специјализирана експертиза</a:t>
            </a:r>
            <a:endParaRPr b="0" lang="en-US" sz="2800" spc="-1" strike="noStrike">
              <a:solidFill>
                <a:srgbClr val="000000"/>
              </a:solidFill>
              <a:latin typeface="Calibri"/>
            </a:endParaRPr>
          </a:p>
          <a:p>
            <a:pPr marL="329040" indent="-3290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Потребните вештини или компетентност за извршување на одредена активност, меѓу другото, го вклучуваат и следново: </a:t>
            </a:r>
            <a:endParaRPr b="0" lang="en-US" sz="24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Релевантните квалификации на лицето.</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иво на компетентност на лицето за дадената задача.</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онкретните вештини кое лицето ги поседува.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Дали неговата компетентност се заснова на технички квалификации или искуствено стекнато познавање, или двете.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3F769F-36F7-4F9B-97A9-E7E347323A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Искуство во одредена специјализирана област</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арактерот на искуството кое лицето го стекнало преку ваков вид на работа.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Бројот на случаите на кои работело лицето.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Видот на случаите во кои било вклучено лицето.</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Колку долго работи лицето во дадената област.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оказ за неговото искуство.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2E9C7F-2AAA-4018-9E0B-779BCE0B71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ознавања за истражни дејствија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Разбирање на карактерот истрагите во смисла на нивна доверливост, релевантност и разлики меѓу: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Информаци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Разузнавачки информации</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400" spc="-1" strike="noStrike">
                <a:solidFill>
                  <a:srgbClr val="000000"/>
                </a:solidFill>
                <a:latin typeface="Calibri"/>
              </a:rPr>
              <a:t>Докази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19B220-0B2C-4E3A-B169-6D54F841F8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Контекстуално знаење </a:t>
            </a:r>
            <a:endParaRPr b="0" lang="en-US" sz="32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знавање на различните приоди, јазик, филозофија, практика и улоги на полицијата, правото и технички познавања за информациите </a:t>
            </a:r>
            <a:endParaRPr b="0" lang="en-US" sz="2800" spc="-1" strike="noStrike">
              <a:solidFill>
                <a:srgbClr val="000000"/>
              </a:solidFill>
              <a:latin typeface="Calibri"/>
            </a:endParaRPr>
          </a:p>
          <a:p>
            <a:pPr marL="322200" indent="-3222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endParaRPr b="0" lang="en-US" sz="2800" spc="-1" strike="noStrike">
              <a:solidFill>
                <a:srgbClr val="000000"/>
              </a:solidFill>
              <a:latin typeface="Calibri"/>
            </a:endParaRPr>
          </a:p>
          <a:p>
            <a:pPr marL="322200" indent="-3222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400" spc="-1" strike="noStrike">
                <a:solidFill>
                  <a:srgbClr val="000000"/>
                </a:solidFill>
                <a:latin typeface="Calibri"/>
              </a:rPr>
              <a:t>     </a:t>
            </a:r>
            <a:r>
              <a:rPr b="0" lang="mk-MK" sz="2400" spc="-1" strike="noStrike">
                <a:solidFill>
                  <a:srgbClr val="000000"/>
                </a:solidFill>
                <a:latin typeface="Calibri"/>
              </a:rPr>
              <a:t>Технологијата е од суштинска важност за да се гарантира издржаноста на електронските докази во судот. Исто така од суштествено значење е разбирањето на концептот на веројатност во неговото најшироко значење, како и разбирањето на разликите </a:t>
            </a:r>
            <a:r>
              <a:rPr b="1" lang="mk-MK" sz="2400" spc="-1" strike="noStrike">
                <a:solidFill>
                  <a:srgbClr val="000000"/>
                </a:solidFill>
                <a:latin typeface="Calibri"/>
              </a:rPr>
              <a:t>меѓу научните и законските до</a:t>
            </a:r>
            <a:r>
              <a:rPr b="0" lang="mk-MK" sz="2400" spc="-1" strike="noStrike">
                <a:solidFill>
                  <a:srgbClr val="000000"/>
                </a:solidFill>
                <a:latin typeface="Calibri"/>
              </a:rPr>
              <a:t>кази. </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A1A964-2001-4957-ABD6-09C6BA41B4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Познавања од областа на правото </a:t>
            </a:r>
            <a:endParaRPr b="0" lang="en-US" sz="32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Познавањата на релевантните аспекти на правото, како што се правните концепти и постапки во врска со:</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Исказите,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онтинуитетот,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удските постапки,</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Од суштинско значење се солидните познавања за улогите и одговорностите на вештото лиц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56702C-FDDB-44D6-9FFC-08AE683E26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3- Поддршка од специјализиран експерт</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Доколку се претпоставува дека во текот на одредена операција ќе се најдат електронски докази, надлежното лице треба навреме да ги извести специјализираните експерти/надворешни соработници.</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600" spc="-1" strike="noStrike">
                <a:solidFill>
                  <a:srgbClr val="000000"/>
                </a:solidFill>
                <a:latin typeface="Calibri"/>
              </a:rPr>
              <a:t>Во целите на истраги во кои има претрес и заплена на електронски докази може да биде неопходно да се консултираат надворешни специјализирани експерти. Сите надворешни експерти треба да бидат запознаени со начелата дадени во овој Прирачник или во други релевантни документи. Специјализираниот експерт треба да го поседува следново:</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Неопходната специјалистичка експертиза и искуство на ова поле,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Неопходни познавања за истраги,</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Неопходни познавања за предметот на истрагата,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Неопходни познавања од областа на правото, </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Соодветни комуникациски вештини (и за писмени и за усни образложенија),</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600" spc="-1" strike="noStrike">
                <a:solidFill>
                  <a:srgbClr val="000000"/>
                </a:solidFill>
                <a:latin typeface="Calibri"/>
              </a:rPr>
              <a:t>Неопходни јазични вештини.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9585D6-A843-4716-8570-15ACBA0B1F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Комуникациски вештини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        </a:t>
            </a:r>
            <a:r>
              <a:rPr b="0" lang="mk-MK" sz="2800" spc="-1" strike="noStrike">
                <a:solidFill>
                  <a:srgbClr val="000000"/>
                </a:solidFill>
                <a:latin typeface="Calibri"/>
              </a:rPr>
              <a:t>Способност за изразување и објаснување со обичен јазик и усмено и писмено:</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Карактерот на специјалистичките познавањ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Техниките и опремата кои се користат,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Методи на толкување,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Силни и слаби страни на доказите,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Алтернативни објаснувања.</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02ACE5-D7C2-4D1C-9C0C-CA0A96183B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Вешти лица- специјализирани форензичари за дигитални докази </a:t>
            </a:r>
            <a:endParaRPr b="0" lang="en-US" sz="40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Општо </a:t>
            </a:r>
            <a:endParaRPr b="0" lang="en-US" sz="2800" spc="-1" strike="noStrike">
              <a:solidFill>
                <a:srgbClr val="000000"/>
              </a:solidFill>
              <a:latin typeface="Calibri"/>
            </a:endParaRPr>
          </a:p>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За лицето се извршени проверки и дадена е дозвола за пристап до одредено ниво на доверливост за да постапува со доказниот материјал,</a:t>
            </a:r>
            <a:endParaRPr b="0" lang="en-US" sz="2600" spc="-1" strike="noStrike">
              <a:solidFill>
                <a:srgbClr val="000000"/>
              </a:solidFill>
              <a:latin typeface="Calibri"/>
            </a:endParaRPr>
          </a:p>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На лицето му се дадени релевантни насоки за евентуални материјали поврзани со злоупотреба на деца,</a:t>
            </a:r>
            <a:endParaRPr b="0" lang="en-US" sz="2600" spc="-1" strike="noStrike">
              <a:solidFill>
                <a:srgbClr val="000000"/>
              </a:solidFill>
              <a:latin typeface="Calibri"/>
            </a:endParaRPr>
          </a:p>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Лицето е известено и му е укажано за влијанието на таквите материјали врз персоналот и соодветно е оценет ризикот во овој контекст, </a:t>
            </a:r>
            <a:endParaRPr b="0" lang="en-US" sz="2600" spc="-1" strike="noStrike">
              <a:solidFill>
                <a:srgbClr val="000000"/>
              </a:solidFill>
              <a:latin typeface="Calibri"/>
            </a:endParaRPr>
          </a:p>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Се утврдува дека специјализираното вешто лице нема конфликт на интереси. </a:t>
            </a:r>
            <a:endParaRPr b="0" lang="en-US" sz="2600" spc="-1" strike="noStrike">
              <a:solidFill>
                <a:srgbClr val="000000"/>
              </a:solidFill>
              <a:latin typeface="Calibri"/>
            </a:endParaRPr>
          </a:p>
          <a:p>
            <a:pPr marL="318960" indent="-31896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278B4F-A4EA-4B11-A45F-A41A8CE945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8CD6E2-2AA4-4A21-8ABC-AB9FEAC383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
        <p:nvSpPr>
          <p:cNvPr id="238"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потенцијалните докази и извори на докази на интернет</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елотворно да ги завршат подготовката и планирањето на претресот и заплената на електронски докази</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овластувањата и одобрувањата во постапката за претрес и заплена на електронски докази. </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600" spc="-1" strike="noStrike">
                <a:solidFill>
                  <a:srgbClr val="000000"/>
                </a:solidFill>
                <a:latin typeface="Calibri"/>
                <a:ea typeface="Arial"/>
              </a:rPr>
              <a:t> </a:t>
            </a:r>
            <a:r>
              <a:rPr b="0" lang="mk-MK" sz="2600" spc="-1" strike="noStrike">
                <a:solidFill>
                  <a:srgbClr val="000000"/>
                </a:solidFill>
                <a:latin typeface="Calibri"/>
                <a:ea typeface="Arial"/>
              </a:rPr>
              <a:t>Да разговараат за улогата на надворешните специјализирани вешти лица.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2C3C57-F938-422A-A8E2-F50FCBE9DA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41"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4 – Соодветна обука </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Лицата кои први интервенираат на местото на настанот мораат да бидат соодветно обучени за да можат да го извршат претресот и да ги запленат електронските докази, доколку на местото на настанот не може да биде присутен специјализиран експерт. </a:t>
            </a:r>
            <a:endParaRPr b="0" lang="en-US" sz="2400" spc="-1" strike="noStrike">
              <a:solidFill>
                <a:srgbClr val="000000"/>
              </a:solidFill>
              <a:latin typeface="Calibri"/>
            </a:endParaRPr>
          </a:p>
          <a:p>
            <a:pPr marL="315360" indent="-31536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Во исклучителни околности кога е неопходно лицето кое прво интервенира на местото на настанот да собере електронски докази и/или да пристапи кон оригинални податоци кои се на електронски уред или дигитален уред за чување податоци, тоа лице мора да биде обучено тоа да го стори соодветно и да ја објасни релевантноста и импликациите на неговите дејствија.</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912C1D-4273-4308-B0ED-4F407CDD80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5- Законитост</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Лицето и органот надлежен за случајот се одговорни да обезбедат дека се почитуваат законот, општите форензички и процедурални правила и погоре наведените начела. Ова се однесува на поседувањето и пристапот кон електронските доказ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Еден од меѓународно важните правни документи, Конвенцијата за компјутерски криминал на Советот на Европа сега е отворена за потпишување од државите-членки и други држави, кои учествувале во нејзината подготовка, како и за пристапување од други држави.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Овие начела ги поставуваат основите за информациите дадени во следните Глави и треба да се имаат предвид во сите фази на постапувањето со потенцијалните извори на електронски доказ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7D7566-258C-4FA6-9835-67D8B955D4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5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000" spc="-1" strike="noStrike">
                <a:solidFill>
                  <a:srgbClr val="000000"/>
                </a:solidFill>
                <a:latin typeface="Calibri"/>
              </a:rPr>
              <a:t>Тим кој прв интервенира на местото на настанот</a:t>
            </a:r>
            <a:endParaRPr b="0" lang="en-US" sz="4000" spc="-1" strike="noStrike">
              <a:solidFill>
                <a:srgbClr val="000000"/>
              </a:solidFill>
              <a:latin typeface="Calibri"/>
            </a:endParaRPr>
          </a:p>
        </p:txBody>
      </p:sp>
      <p:sp>
        <p:nvSpPr>
          <p:cNvPr id="73" name=""/>
          <p:cNvSpPr txBox="1"/>
          <p:nvPr/>
        </p:nvSpPr>
        <p:spPr>
          <a:xfrm>
            <a:off x="457200" y="1176120"/>
            <a:ext cx="8229600" cy="494964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е одговорен за постапката на претрес и заплена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е должен да добие соодветен налог за претрес и сите други потребни овластувања пред да почне постапката на претрес и заплена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има должност да го обезбеди местото на настанот, да го документира местото на настанот и да ги складира доказите.</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е должен да ги идентификува сите можни уреди за чување на електронски доказ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донесува одлуки за методите на прибирање и заплена на електронските доказ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е одговорен за дејствијата со кои може да се изменат доказите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ој е одговорен за состојбата на електронските доказ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000" spc="-1" strike="noStrike">
                <a:solidFill>
                  <a:srgbClr val="000000"/>
                </a:solidFill>
                <a:latin typeface="Calibri"/>
              </a:rPr>
              <a:t>Тимот е одговорен за преземање на активности со кои се спречува менување или губење на електронските докази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1F5AFD-841A-45EC-BCD8-CF8AE611A2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Daniela</cp:lastModifiedBy>
  <dcterms:modified xsi:type="dcterms:W3CDTF">2013-07-24T23:49:52Z</dcterms:modified>
  <cp:revision>254</cp:revision>
  <dc:subject/>
  <dc:title>Introductory Cybercrime Training for Judges and Prosecutors</dc:title>
</cp:coreProperties>
</file>